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3.png" ContentType="image/png"/>
  <Override PartName="/ppt/media/image24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CD3-91C6-4FA7-A91D-0D46DF64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BC4-8FB1-4DF1-8CC6-CEF657DE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56B-EEAC-46D5-83C7-6657ECCF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46B-5BB7-45D7-8A94-42BB4FCF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B13D-8B2C-4BDB-A10F-A9A179EB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5F80-29E2-4E27-9B4F-AA1C33E3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C7A8-7CBB-455E-8B0D-B7462630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A31B-D682-4F5D-A72F-7660B72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F9E7-8EFA-4CC1-A114-D53CDB3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4559-99A6-4FCC-BA1E-896F1B7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05B5-E5CE-4E33-80C7-7800E4B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B8C-250F-4A3B-B6C0-9C5A545C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ADD-18FA-4C87-9D0A-9384E2E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10E7-A7DC-4E40-9B16-8ACD5A87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B25-BA4C-4F93-A197-5841EF03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7B9C-0D17-4EF0-9C99-85FF1318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50A5-5CA4-4DE8-AA18-F54487C4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0AA-941F-40FF-8929-F547953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DF3-EC0E-4153-B9EA-21B43AE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73B-5648-4255-B02F-4709371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A05-FACC-4B12-B1FA-C3737D4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76C-98DB-4072-BF55-1FA8530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28-55EA-4C09-9F66-2D69B840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5A6-3229-4279-8F04-6D41C1BC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D30-40FD-4C64-94B3-85225636A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DA5-0C06-43BD-9876-9879C28B2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ddle Ages Revie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Maric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39006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udalism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98560" y="140796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990720"/>
            <a:ext cx="86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litical, economic, and social system based on loyalty and military serv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53080" y="17128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760" y="5141880"/>
            <a:ext cx="855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040" y="506556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medieval life, it was one or more villages. Lands were planted and harvested by serf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Medieval Gui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rcial Monop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membership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pprenti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journeym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ster craft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quality of the product [masterpiec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p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34290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828800" y="457200"/>
            <a:ext cx="70102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Evolution of England’s Politic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1285920"/>
            <a:ext cx="693432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nry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lliam’s 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t up a court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Exchequ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ept. of royal fin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782880"/>
            <a:ext cx="693432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nry I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ablished the principle of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common law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throughout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nd ju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al by ju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Magna Carta, 1215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John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 Char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archs were no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bove the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s had t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onsult a council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is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s could not tax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rbitra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magnacarta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1600" y="1219320"/>
            <a:ext cx="3566880" cy="47242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us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war called for by the Popes, started in 1050s when the Byzantine empire was atta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lims vs.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many battles for over 2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goal to conquer the “holy l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many dead, unsuccessful in conqu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new foods, trade increases and gave the church more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dle Ages and Relig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1676520"/>
            <a:ext cx="365760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 of Fa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3048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4191120"/>
            <a:ext cx="19047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urch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048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4114800"/>
            <a:ext cx="16765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gs vs. Po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3124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114800"/>
            <a:ext cx="17524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Infl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Medieval Catholic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060560"/>
            <a:ext cx="69339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lled the power vacuum left from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collapse of the classical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nasticis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t. Benedi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Benedictine Rule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poverty, chastity, and obe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vided schools for the children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the uppe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s, hospitals, refuge in times of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raries &amp;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scriptori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copy book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lluminate manuscript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nk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issionaries to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barbarians.  [St. Patrick, St. Boniface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e of the Catholic Chu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page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600200" y="457200"/>
            <a:ext cx="57913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urch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1828800"/>
            <a:ext cx="3886200" cy="91440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pe: The political and spiri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er of the Roman Catholic Chu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971800"/>
            <a:ext cx="4114800" cy="7621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dinals: next to be the Pope, work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leaders of the chu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4191120"/>
            <a:ext cx="4343400" cy="6094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hops , Abbotts, Abb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ers of smaller areas such as a house or chu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5257800"/>
            <a:ext cx="4267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ests and Nu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care of the sick, poor, &amp; conducted relig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s only pries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67040" y="1941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67040" y="308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656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67040" y="4989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 of Middle 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00, Black Death, starvation, warfare had overtake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strophic events, enormous loss of life may have led to changes of the 13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population led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food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e in food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money to 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ation in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00200" y="388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Power of the Medieval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1455840"/>
            <a:ext cx="693396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ishops and abbots played a large part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the feudal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hurch controlled about 1/3 of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land in Wester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ed to curb feudal warfar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nly 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days a year for comb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rb heresie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rusade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;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th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1/10 tax on your assets given t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th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eter’s Penc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1 penny per pers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[paid by the peasants]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ings vs. Po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IV of GB vs. Pope Gregory V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209680"/>
            <a:ext cx="7696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ory issued declaration reducing the King’s ability to appoint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IV considered Gregory’s declaration an attack on his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ory excommunicated Henry IV from the ch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IV traveled to Italy to beg the Pope to be allowed in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09480"/>
            <a:ext cx="769608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ly, answer the following questions in your notebook. (answers can be found on page 27 or 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spects of society did the church control during the Middle Ag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Magna Carta? Why do you think it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Power in the Middle Ages, who had it and wh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Infl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Life-Farming and agriculture dominated the daily life’s of the serfs &amp; peasants, church was center, only day off was Sunday for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ies-Began to be centers of learning outside the church, only ones who could read were priests and n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-Religious art dominated during this time, lots of pictures of Jesus and s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hic Style Cathedrals-Became centers of religion for the large towns, famous for stained glass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wer of the Chu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t of W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22 C.E. Met in Worms,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s and the Pope agreed that the Pope would appoint members of the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the King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the Pope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t of W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Age of Fa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 of the Church-To save the soul of all the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he-People donated one tenth (1/10) of the produce from their lands to the church each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lth-Church became wealthiest group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daily life-The local church served as a church, meeting place, and shelter during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-Created a sense of community &amp; togetherness between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steries-Provided education to the men entering the c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ies-Developed due to people outside the church wanting to be edu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doba &amp; Baghdad-Muslim cities with important schools and centers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-Women were not allowed to study at the univer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thic Cathedr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hedrals–Pointed arches.–High, narrow vaults–Thinner walls.–Flying buttresses.–Elaborate, ornate, airier interiors.–Stained-glass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528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The Gothic Cathed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4648320" cy="5464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447920" y="66996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Gothic Floor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2147760"/>
            <a:ext cx="7086600" cy="3033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 for 9/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going over rules/re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fo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own AIM in not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 page 27 and 29 #1 and 2 on those pages in your noteboo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notes if there is time rem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5280" y="212760"/>
            <a:ext cx="7696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9bc0f"/>
                </a:solidFill>
                <a:latin typeface="PerryGothic"/>
              </a:rPr>
              <a:t>Interior of a Gothic Cathedra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28800" y="1600200"/>
            <a:ext cx="670572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4792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Canterbury Cathedral, Eng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>
            <a:lum contrast="6000"/>
          </a:blip>
          <a:srcRect l="0" t="0" r="0" b="6909"/>
          <a:stretch/>
        </p:blipFill>
        <p:spPr>
          <a:xfrm>
            <a:off x="1981080" y="1679400"/>
            <a:ext cx="6324840" cy="4873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71600" y="365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Stained Glass Win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374976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5943600" y="2602080"/>
            <a:ext cx="281952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04640" indent="-404640">
              <a:lnSpc>
                <a:spcPct val="100000"/>
              </a:lnSpc>
              <a:spcBef>
                <a:spcPts val="1624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or the glory of God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100000"/>
              </a:lnSpc>
              <a:spcBef>
                <a:spcPts val="1624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or religiou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nstructions</a:t>
            </a:r>
            <a:r>
              <a:rPr b="1" lang="en-US" sz="2600" spc="-1" strike="noStrike">
                <a:solidFill>
                  <a:srgbClr val="0068ae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5280" y="457200"/>
            <a:ext cx="75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9bc0f"/>
                </a:solidFill>
                <a:latin typeface="PerryGothic"/>
              </a:rPr>
              <a:t>Cathedral Gargoy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599" t="12879" r="799" b="14687"/>
          <a:stretch/>
        </p:blipFill>
        <p:spPr>
          <a:xfrm>
            <a:off x="1828800" y="1582560"/>
            <a:ext cx="6324480" cy="4665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71600" y="34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bc0f"/>
                </a:solidFill>
                <a:latin typeface="PerryGothic"/>
              </a:rPr>
              <a:t>St. Etienne, Bourges, </a:t>
            </a:r>
            <a:r>
              <a:rPr b="1" lang="en-US" sz="2000" spc="-1" strike="noStrike">
                <a:solidFill>
                  <a:srgbClr val="f9bc0f"/>
                </a:solidFill>
                <a:latin typeface="PerryGothic"/>
              </a:rPr>
              <a:t>late 12</a:t>
            </a:r>
            <a:r>
              <a:rPr b="1" lang="en-US" sz="2000" spc="-1" strike="noStrike" baseline="30000">
                <a:solidFill>
                  <a:srgbClr val="f9bc0f"/>
                </a:solidFill>
                <a:latin typeface="PerryGothic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787400" y="1279440"/>
            <a:ext cx="6823080" cy="46069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338640" y="6080040"/>
            <a:ext cx="37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ae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Flying” Buttr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92720" y="3184200"/>
            <a:ext cx="533520" cy="2971800"/>
          </a:xfrm>
          <a:prstGeom prst="line">
            <a:avLst/>
          </a:prstGeom>
          <a:ln w="28440">
            <a:solidFill>
              <a:srgbClr val="0068a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92720" y="3641400"/>
            <a:ext cx="2133720" cy="2514600"/>
          </a:xfrm>
          <a:prstGeom prst="line">
            <a:avLst/>
          </a:prstGeom>
          <a:ln w="28440">
            <a:solidFill>
              <a:srgbClr val="0068a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3844800" y="3717720"/>
            <a:ext cx="1447920" cy="2438280"/>
          </a:xfrm>
          <a:prstGeom prst="line">
            <a:avLst/>
          </a:prstGeom>
          <a:ln w="28440">
            <a:solidFill>
              <a:srgbClr val="0068a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371600" y="289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Notre Dame Cathed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943600" cy="5376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3657600" cy="36576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10" name=""/>
          <p:cNvSpPr/>
          <p:nvPr/>
        </p:nvSpPr>
        <p:spPr>
          <a:xfrm>
            <a:off x="2438280" y="563868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The good, of course, is always beautiful,               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and the beautiful never lacks proportion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--- Pl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3333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bc0f"/>
                </a:solidFill>
                <a:latin typeface="PerryGothic"/>
              </a:rPr>
              <a:t>Rose Window </a:t>
            </a:r>
            <a:br>
              <a:rPr sz="3200"/>
            </a:br>
            <a:r>
              <a:rPr b="1" lang="en-US" sz="3200" spc="-1" strike="noStrike">
                <a:solidFill>
                  <a:srgbClr val="f9bc0f"/>
                </a:solidFill>
                <a:latin typeface="PerryGothic"/>
              </a:rPr>
              <a:t>Chartres Cathedral,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4479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“</a:t>
            </a: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Rose” Windows of Various Ki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 rot="668400">
            <a:off x="1219320" y="1523520"/>
            <a:ext cx="2590560" cy="2497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587760" y="3124080"/>
            <a:ext cx="2584440" cy="2590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6351480" y="1600200"/>
            <a:ext cx="2563920" cy="259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19320" y="3962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Comic Sans MS"/>
              </a:rPr>
              <a:t>Original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59436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ddhist Mand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43434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Comic Sans MS"/>
              </a:rPr>
              <a:t>Labyrinth,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76520" y="46022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linquary, late 12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Late Medieval </a:t>
            </a:r>
            <a:br>
              <a:rPr sz="3600"/>
            </a:b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Churc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428840" y="1309680"/>
            <a:ext cx="3828960" cy="3232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76920" y="4033800"/>
            <a:ext cx="4038480" cy="26002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5562720" y="3200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8ae"/>
                </a:solidFill>
                <a:latin typeface="Comic Sans MS"/>
              </a:rPr>
              <a:t>Chalice, paten, and straw, mid-13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191040" y="1219320"/>
            <a:ext cx="3666960" cy="53337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1447920" y="38088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9bc0f"/>
                </a:solidFill>
                <a:latin typeface="PerryGothic"/>
              </a:rPr>
              <a:t>Illuminated Manuscrip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 Middle Ages start? Why were they called the Dark A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71600" y="3650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Printed Psalt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5752" r="0" b="10518"/>
          <a:stretch/>
        </p:blipFill>
        <p:spPr>
          <a:xfrm>
            <a:off x="1676520" y="1436760"/>
            <a:ext cx="6933960" cy="4354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2057400" y="601992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Gregorian Ch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248520" y="2214720"/>
            <a:ext cx="2819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t. Francis’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Rule 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io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288-9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mpera 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wood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round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590840" y="1447920"/>
            <a:ext cx="442908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1828800" y="365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Late Medieval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400800" y="2168640"/>
            <a:ext cx="25146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iott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305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mpera 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od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ound gold</a:t>
            </a:r>
            <a:r>
              <a:rPr b="1" lang="en-US" sz="2400" spc="-1" strike="noStrike">
                <a:solidFill>
                  <a:srgbClr val="0068ae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>
            <a:lum contrast="6000"/>
          </a:blip>
          <a:srcRect l="2307" t="2460" r="1875" b="2769"/>
          <a:stretch/>
        </p:blipFill>
        <p:spPr>
          <a:xfrm>
            <a:off x="1523880" y="1600200"/>
            <a:ext cx="4648320" cy="4551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1219320" y="4413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9bc0f"/>
                </a:solidFill>
                <a:latin typeface="PerryGothic"/>
              </a:rPr>
              <a:t>The Crucifix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00200" y="41112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erio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639800"/>
            <a:ext cx="624852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arly Middle Ag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500 –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igh Middle Ag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1000 – 1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ate Middle Ag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1250 - 1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: 742 to 8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contrast="6000"/>
          </a:blip>
          <a:srcRect l="1910" t="2979" r="0" b="2979"/>
          <a:stretch/>
        </p:blipFill>
        <p:spPr>
          <a:xfrm>
            <a:off x="3048120" y="1219320"/>
            <a:ext cx="4371840" cy="53337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3520" y="990720"/>
            <a:ext cx="7315200" cy="50702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rope in the 6c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529400" cy="50608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lemagne’s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lemag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400 and 700 Europe was divided by invaders and into small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 Charlemagne was first to provide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vived learning and art, provided safety and strengthened the RC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ed in 814, and empire crumbled and new invaders conquered Europe causing the Dark Ages and led to feud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8:47:24Z</dcterms:created>
  <dc:creator>jhenry</dc:creator>
  <dc:description/>
  <dc:language>en-US</dc:language>
  <cp:lastModifiedBy>jhenry</cp:lastModifiedBy>
  <dcterms:modified xsi:type="dcterms:W3CDTF">2011-09-13T14:06:01Z</dcterms:modified>
  <cp:revision>7</cp:revision>
  <dc:subject/>
  <dc:title>Middle Ages Review</dc:title>
</cp:coreProperties>
</file>